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0612-0C78-4E17-A35A-99732C303A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5D0-EA55-47F2-865D-B5A710D87A8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927-7473-4040-B135-D203D643001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C936-A0D2-4F63-ABBF-514B20D52D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0C7-4500-4BAC-8199-08FD532F46C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A18-94EE-4ADB-B749-35B3D2E62A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9AB-228E-45DE-B36F-455C7987B9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26F1-EDD1-4BB4-876D-DFCAEE7EBC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B6AF-0796-4C61-8D4F-F5574404BA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0C3-26A7-496A-87C3-B8FF9E15ED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1DC-DAB5-4B47-8B67-E27868EC37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F08-986B-419D-9CA1-270B150A13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81B-9C3C-45D4-B364-60013E1ED0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F15BA-2072-4A20-9A6A-36D0E2BA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CFEC8-4979-4C46-A3ED-26447F0FF7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45ACC-4801-4806-AC85-A8DF9D119E6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CD684-6668-4B18-A0EC-4C46EE93ED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F3120-169C-449C-B436-10BB038796C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F39BA-BEEA-4DCC-8986-D38640BBDE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2B452-0AD2-4A77-B102-A16E0C996F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3987B-2074-47BF-AF11-CFC2BD5439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9FCA7-8DF3-4BB3-9CF8-14BF63815B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13426-D0AB-4C21-BD71-2E4405A59E7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44FDC-4271-4F6F-9B39-16A344593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54A75-2F17-437E-993E-006C06FCF8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8704-2763-40A3-9509-BA83943B6C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92FA2-8CC3-4AC7-8A0C-DA097DDB99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E22E2-1101-4E1D-BC1C-6D9DF9EE20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D8417-538D-4CF6-B070-E9010CACC1C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E1CDF-F8ED-43ED-9235-D3F7F023BE0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0D610-2510-49FD-8E1E-26F92FA271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0B5F3-A194-45D4-8A8F-D40292985F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B1188-56BA-4964-AEFF-8B91681B77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C78FD-6A8A-4A69-B62F-E0CB4E39A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5711-F578-43A1-A1A4-C85512A0243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0A0C9-112B-4F52-A843-36AB2A0B50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204CC-823F-4256-8274-8348CAE4F3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208AB-B810-4729-A2FD-7FBE992775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9C30-472E-4B1C-BD68-1107320235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BBEA-DEDC-4EF0-AE89-EC8993ACA2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2CC8-CD68-450E-8EF4-90E42A2BB6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85D5-30BF-4246-ABEB-3FF395B6CA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6CE8-3A22-4822-9ACB-D98F172FD8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8D0B-9C36-4526-BF20-37814DA3F3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C7EC-64E9-4698-BF3B-BF6E4AAF7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3DA-7BEB-47C5-9B1F-24053657E2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5F50-2C4B-4987-8AF4-735424F407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C8DF-516E-4449-AD9B-453635117A1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964F-7FBB-486D-9EB4-D334C53CBD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DAF6-8BB9-4EDB-BE0E-16755D5258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06D6-E8DA-4C98-B840-F219ECE29C9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45806-E637-4180-B033-73280B895EC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0716D-0061-47AB-A918-475327CC7C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20E92-629B-41CD-AA05-3220BCA45C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87BC1-E7A1-4D9E-93D0-1ACC1FA378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F1E7A-A290-424E-9312-A2FE49E63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E4C4-E391-44DC-ABB1-E6DAAA82A0C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B1AEA-1C63-45DE-A769-DE6A2C7677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B7ED38-ACA6-42AF-8067-99BB235567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2D4ED-704C-42F4-BE56-8DDB4F162AE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B586A-F691-444C-803B-E9AB120E63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02F6A-7931-4882-AE32-C03A8C091A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BA725-567B-4F8D-8C48-F066A9C20BE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CDB9E-688D-4DC2-ADD9-31B3F8DB223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46996-FE34-4142-A410-5020057B50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A62D0-C4C5-44AD-AC97-10B181EF656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98EC0-2D4C-4C2B-8A93-24403E873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09AF-A2FD-445B-884C-59D9D021C6D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D8F6F-C026-4241-83E1-0E4783B2BD2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6F932-B036-47C1-820F-496560A5E9E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CFB4E-3006-43FC-B3C2-5A52739134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1F620-4571-4224-845D-CB2CCB33586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AEB44-8888-4F6A-BE9B-3FD5D75A6C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8D97A-A0CE-451E-A533-337B6A1FAA8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40EE0-5EFF-4DC9-913C-077BABFCF38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3873A-7657-4346-8104-75685BCC286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ADEB7-A306-46D2-B113-7E2A6B0C7E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0642-6C2D-4D7E-9B27-1E42E021DF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4035-D753-43D9-BE11-B7B082DEF9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90F5-DAD9-4897-8146-9625D5103EE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5715-AA58-46DA-AE7F-7EF3BDD5BC8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E319-39B1-4667-87C8-27DD47C40F6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162B-ECE9-4EFB-A742-D60E7B6AA67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F53B-FF28-4D03-A219-92CFC5C4A41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8132-003C-4BB2-8408-D84C8A616C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AF48-BDC0-4747-8479-FB6683E75EA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CCDC-DEAC-402C-9B18-705550C7165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92FE-8C35-4FED-8332-96F72319F69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0BB0-AB20-47F6-B331-FCF49EFE4F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E52C-A3F6-4BB7-8B73-D04F03C3D6A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84B8-1A14-4F1C-9975-7508CE2227C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AB210-87E1-4F8D-964F-2936FF7539E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9B93E-4019-4932-BEA4-D29F2C33BA2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9331E6-7652-40C4-BCB2-F1669416186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AFE13-9EC8-4EC5-9C6F-806052AD797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91BA5-F30B-4832-8403-DC4B2A14768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F4C3E-9666-47FB-8057-0A358731BB7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2936B-B8E2-4A31-B8D8-A67E748463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159AA-F1FA-4C67-B8D7-6CBDF7C0D58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81E8C7-05AA-4324-909B-BABBADEB3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22B4-3820-4129-888E-89FD12774FD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E2C53-0321-45B3-B2ED-68F1C2923C8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3384A-33F4-4768-90F8-CED342A83CB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95BC5-F786-44D5-B86F-2B91661DD5B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62685-DF5E-4508-B55E-B33371EA06B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8B7D5-3FAA-449B-B879-6E3F372050A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76B5D-22CE-46B8-B69D-BABAECCADE1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2A833-D688-45F0-91A7-A938239B5C0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D1E02-023A-4D11-B483-0B873F74355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1C773-0771-4A98-BD65-78ED55B98B7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41857-8EE9-4C01-81D9-30828B5F1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238F-98E0-4127-BDCD-5533372F84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E4AA0-C98E-462D-9CBF-134F938DE91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80F03-3607-4C0B-BBD2-BE8BC156195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5587A-47C2-4FA1-B97C-ACBB8D4AC7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F1ABE-999F-43F2-888A-29C23A2167E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A97E9-9316-4E26-98B8-B5DFDE010E5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2361-1FC7-4A37-80EF-3414793B54E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892B-C882-4A48-9B83-51303B64358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188E-35B4-4B38-BF0B-3009433BD91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47B0F-7510-48CB-8EBC-FC5959FA8BD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53DC-F7C2-480F-8345-1B7B568FF2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AC0B-2CCA-4261-A396-C943B415EF5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1141-D257-456D-A855-563FAC3C1B0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47FF-D3A5-4BD1-9DC6-CDEEECB4E0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3668-7C8D-4FF1-AEB1-7AF86A8E3EA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8CB8-F43A-4143-8550-23D7E4154AC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DD0A-E693-4650-9D7D-C4B8453DE13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8536-B4B6-4C79-ABC8-D8B9FEA7B63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A508-B806-43B4-AEB8-FD0FE97502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DF157-E5D7-4F94-9C9E-A3C691F24A9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92B6D-D488-41B9-82F8-406BE149AF4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7898B-73E7-479C-99D6-D48A185C10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D48F-4919-4826-B3A3-B167B941896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65731-8366-43FB-A910-F368C0A48FD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E64A2-0D76-40CF-9C06-C96F9375F16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75A9D-3BCA-4C72-85C7-E23B70C385E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CC077-8E13-43BC-BA36-D9275E4EFA4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22D63-1988-491F-A2F0-B577506C7B9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8AED4B-88B8-45CA-9132-E69C318B04C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9F2B5-A639-484F-A51C-6CA23480F06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747FD8-A81D-43A4-858B-11584944A21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8461A-E62A-446C-8563-0238089FE20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67B39-1BE5-4AED-97B5-07A1D33B7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2107-1829-4579-A83F-8B8B6866AFC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039C5-0022-4FE3-8A5C-EAA5F2B54D2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E73D5-DAC2-44B7-B298-8CCA957A009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01BCF-6DF1-4564-B3FD-54879298DD9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2CC79-345C-4F54-A2BC-8E62FCFF5E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9DFF6-7660-4B38-87BE-6872F7D80D9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666F2-3BE7-4B42-8DF6-FDDA23C11A4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02F13-588C-4B72-9906-E08A4E1648D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5CA63-6E4D-4FD8-B4C9-DA78C01C495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7DD70-2142-422A-BFC0-FC6F6CBBB48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90551-C4AD-4692-B0D9-D33A03BAD5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95F0-8076-4B48-AFD3-2D1921EDB0A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6BE0D-DD3D-40F9-A63C-8E7C802C1D4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1984-3460-4B79-A47B-90FCFB2F6A7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52BA-A539-4A4E-8E41-11D47E188BA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287C-56CE-40B7-A19B-5978EB29E11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55D0-7938-4C18-8A86-24B20778472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AF54-EFED-4B4F-9A03-444E7436D1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1F8A-7F58-4CBB-8E39-C757CA4304A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DEAFA-5C00-4A8A-9E0F-B611CBDE370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B978-571A-44F9-9329-D4448B7638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A62C-8747-458A-9C6F-48BF5AFFAF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D3D9-0099-46F3-881F-BB52CE74A9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00B3-E9CD-4FC1-9A22-74A9FEF1372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8188-0B6C-4CD6-AB00-A3C0A975538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E1447-A4BF-42CD-B25D-83A65011B13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B70C0-487B-47D1-8098-50D53B84A85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5726BC-2C2C-4574-ADBF-B6921685A92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AF70E5-7C61-458A-BE26-194AD9C2BD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4412E-94D0-42C6-91C8-5F75921225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C6DC0-0BDD-42B2-9005-C9A8C4E29CF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B5CBC2-913B-40B8-A28E-56F1FB698A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01CC6-509A-4216-9A84-57317ABB180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C6649-551A-411B-B2FA-E61FBDA01E8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CB465-D0D6-46FE-BCBF-0B4E93C8963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8AA138-17F6-4379-A93C-95304B4CEAE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54B6F-F9B4-4371-BD0A-E9A4E67AFA9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84EC4-F8E6-424D-9503-D87E636B445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E6B0B-EF01-4F28-B27A-2C3212CC76D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4CE39-970E-4F76-81A0-271E8C94BEB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2AE01-940D-448E-8732-DB71092BE3F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414A8-DC96-4BA0-A388-D04F7549A1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50AC7-30C3-47D2-BAC1-E330C740BC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336AC-E2B0-4E1D-B7B2-8D827E7C81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5EC04-B331-47FE-B419-1FCB35657DE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7AEFD-C7D9-4282-B11E-C7DF41882E4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5A914-5051-4B27-AC35-F7598C8B03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BEC17-46E6-4F2B-BB53-C74D5096161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C924C-EEBC-44B4-A9DE-E8258F8B08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96FD-8988-4399-AF04-70D267F079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FDB3-EE06-460D-8C7A-0C5294CD9FF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C6AB-E42D-4075-A1C7-92049691DD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7C056-BB98-453D-AAE6-ADB5898E733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8119-1926-475A-8C6E-B9695B66F2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DFF0-60A7-447B-ADBD-511DC46C42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4CE96-BEF7-4724-8C28-5B4E56E2A9C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95F4-4B72-4875-A17E-667B221EF7D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FEF6-894F-4E7B-B03A-13B23D63EB9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F6FD-0462-4561-8631-4FA503D7B91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CD34-C753-461D-92E4-1D228F527BC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5F98-C96E-484D-82AB-4F34239F41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471AC-1E19-4BD9-8262-580D580FB4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CD8BD-4AC1-499F-9678-4CB2DEFDDF6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D7EF08-7DE4-4ABC-B26B-92E784F84E6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11C097-1B57-4349-9C8E-E841CA60F5E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25EBE-D82E-458A-ADB9-4B93202CAB0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E772E-D59C-463B-B9AA-39AB04E150E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67938-E8ED-4BA7-9546-6343E99206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17A9BC-1130-4000-994B-07F60E846B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672A4-3EFC-4457-B0A4-54CF893A61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5924FC-4A7F-42DA-94AC-94981AEAC1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7C98C8-BB55-40BA-9268-5FCE42247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8899F4-9DDA-4C09-B940-B975CF6B583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94C92-771B-4540-BA6E-5877D076CFC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814090-19D2-4403-A10B-1C5FC449988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7C660-E422-4BE7-A9AA-C2AE080F41F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2BF92-79FA-4021-A4D6-F44A64EFFDA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0A6A1-671C-46FD-98A5-7C210C8D324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4CE4E-F8ED-4583-8601-85ECC945D3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D3675-2498-433F-8C6A-A6398CA3D71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4261C-4B7E-4AFA-B631-A10F6841E83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68F98-B2E6-4728-AFD1-3785136C3F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D7372-F7B4-4417-AF62-85CBC7AF32A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D0F8D-E227-445E-8B96-BA473FB4CA3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BD377A-1AB7-4715-990B-BC4B013857C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F1A4-191E-4680-8B12-DF96D143055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28D6-373C-4560-B60F-3271D0186D2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EE9A-CDEF-424A-8B7B-CDBCAD73EFE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907D-D32F-4ABA-9EAF-0E43BA84015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F912B-1FF9-4651-86E7-F84F2E38240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6C50-F53B-4436-BF2C-CE7378C7940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864F-76E2-49FF-8405-39CABB83BC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279D-D7DC-4B4F-AAB6-199906195A5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9090-7015-480C-B989-7798AB0CA2E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3F65-B6D4-418D-BDE5-7416B159486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2A3A-798F-47B3-B6C1-C9CD7B19E5D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CE51-9863-474F-8E1D-BA1A2B2FFA8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74BE-584D-4009-8BBD-A3C990609C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7C91-3F0C-4252-AB66-CE2D39F970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793C-1F16-4E5A-9C19-D4C25C09A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62A2-EDEC-4C50-A11A-D4B6D9C634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2194-BE44-4BAC-8841-3F180601FA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E9C7-B337-4CAA-828B-13E57C6238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3E05-81B1-4707-957A-B697C26B51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FDD6-D0C2-41BC-B1D3-1E26BBB251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0169-B2D1-444A-BFEC-A0CD5FD5D0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7549-B57B-49BE-94C3-191F33BFA6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08F-5F87-4EA2-8BE6-C93C5F5E9F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B927-8FCF-4CFF-A0AE-5C89998227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8F3-FC1B-45DC-A822-B5A332EDAA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462-35A4-4F2E-801A-2DB6E8EBC7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20B-5C61-48B2-86F4-F961FCBF9D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E3F-38C2-4ECF-858A-31AA0054F7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638-3CF7-4251-AC84-0FD3086B40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E08-22D0-4699-A7AD-4760DC7572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E0C-FF80-44B2-9324-3E50D42859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79A-7347-48A7-B111-741E6057F2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FD6-A0CE-4487-A49B-B8274685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180-FB7B-457F-AE69-47A439DACF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D51-B15D-43BB-8B00-D8E5553EB7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630-2E55-4935-A42E-1A9F44BB2C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15614-359C-4B32-9B6C-E7BB487EA6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4944-DF95-4375-8ADA-D24DDCFF6F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9CF06-44B3-4DC8-8F8D-A473DEFAEB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92459-2EEA-411A-B8E0-191EC37838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775E3-3EF1-4A5D-8649-936B52B041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F4ABF-11AC-40FB-A79C-2B1D4A8F30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F4DDA-BD2F-43E8-A533-E2CDE8ABB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9ED7D-9718-4A32-89FF-6C02EFBDBF1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8AB06-6A42-4622-BB85-7622E3B77E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89CCE-59EB-449D-9BDB-85B06F8571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C2B6B-3732-4FE3-9175-7C18D494F7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4A38E-0282-4A4C-B3E4-7E9301ED7B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1F322-36EE-4BB8-9F41-B0FF9287D6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58E4-4D18-483D-A47A-AA2F068D42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2EAC9-E158-42F8-943B-CAD08EF3ED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1B40-584C-43A2-B54C-51749EC406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2D80-722D-431C-B1D8-72DC34C36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E48C-67EE-4D4A-9FDE-0CCECD6B3C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6A57-5519-4903-B550-2662A0A14D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19755-C8F9-4EB7-8B99-B8D01E29A9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20B64-9C58-4C81-8E8D-A4890C68F7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69CA-AA7C-4EE8-BC01-A1CD2E7EC2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CA3F2-BA24-4BAD-ACEF-F4D278655D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27DBB-5063-49AF-BF22-9889E783D9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EB48-C3EE-4AE1-BF40-9474B8B994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546-DDF6-4129-86B8-E308E02FFF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574-0913-4FC3-AE45-3FE2754E2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6E7-85D8-4A43-814E-697450F53A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E85-7EE6-4E2D-A7E7-C292C9D8F55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AAFA-885B-4DAD-98F0-881A23A435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25E4-975E-487A-A77B-FA8FD01483B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D6B-E1AD-4187-8B19-9B670D97973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9DE-5C08-4D57-B301-27D539C3567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3061-6FF4-4D52-A686-D2974B983A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C3BD-8048-45A4-B250-556D2DF277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E04-F310-4DDC-88D3-11A65AE0731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BEDC-673B-4DE4-9698-8EC0601849B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1AE-7CAE-495E-ADED-A1FE79297D6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367F-CD11-4C5E-86A8-1D3D069BD87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57E-1182-4D21-9369-E516D7A441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C0B-AC3D-45B9-B5D4-B1EDCCB00FC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E61-36E4-4797-B51B-47DE12E8A1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210-111E-4836-86E2-E785640BFFC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7AE-ED6B-45DA-8748-2CC299F184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C0CD-DB38-409C-A075-59A10B088E9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D782-B007-4FE4-97A8-CF58D602D5B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EBF-8BE0-4CE3-97D4-A9BEAC233E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2FD-52F0-4F29-83EC-07DC9AB95FD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D97-BE4C-4F4B-9930-69DABCE9809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A58D-22D9-4C40-A3D4-76EC568B386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37C-0A0F-440C-AD06-C4DB8E3626A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5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10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01840" y="1484280"/>
            <a:ext cx="6338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3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 metropolitan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904000" cy="1942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509760" y="1700280"/>
            <a:ext cx="82785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1916280"/>
            <a:ext cx="78058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08000" y="240840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916360" y="584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909880" y="2276640"/>
            <a:ext cx="5904000" cy="172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291636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949480" y="198360"/>
            <a:ext cx="6162840" cy="5534280"/>
          </a:xfrm>
          <a:prstGeom prst="rect">
            <a:avLst/>
          </a:prstGeom>
          <a:ln w="0">
            <a:noFill/>
          </a:ln>
        </p:spPr>
      </p:pic>
      <p:sp>
        <p:nvSpPr>
          <p:cNvPr id="1271" name="6 CuadroTexto"/>
          <p:cNvSpPr/>
          <p:nvPr/>
        </p:nvSpPr>
        <p:spPr>
          <a:xfrm>
            <a:off x="406440" y="4911840"/>
            <a:ext cx="224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mayo – octubre 20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30200" y="1628640"/>
            <a:ext cx="70311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438200" y="1560600"/>
            <a:ext cx="6693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4-02-24T23:06:42Z</cp:lastPrinted>
  <dcterms:modified xsi:type="dcterms:W3CDTF">2015-12-10T22:05:11Z</dcterms:modified>
  <cp:revision>889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